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BD2-C951-4896-BF84-07249D4A9A0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903-DFBB-4FC8-9A56-C03026AB699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9BA-99BA-4422-859E-EE2BC65510B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9F8-F9C4-4E8E-9290-005F45A724C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C40-C421-46D0-B3C2-27ED1B9F3BC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7639-9BD2-4DA0-94F2-DB91EC5CCB8C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913-67B0-4D4A-96BF-D8BDF182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62D-92A0-4A08-9082-CDA3188D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0DB-AB73-48B3-BC48-0AE4D6ED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9F3-4F8D-4F4E-AC9D-0B2F2C03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C9D-F726-4750-A780-B4E25A3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5CF-C13A-475F-A8BC-68555EB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F5C-004F-4D1E-A9A7-CBFC581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EE3-3A55-49A0-B618-3DFF578E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C72-BDCB-4467-A856-75BA4B82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8C8-4338-4E66-A9E8-8E986C8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866-AA17-491A-85BA-3D75BA1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500-779C-4ABD-9D7D-CF69AF7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EBB-261E-43DB-BDFA-76CB3212C44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14720" y="2271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Tahoma"/>
              </a:rPr>
              <a:t>IL PERS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85840" y="1114560"/>
            <a:ext cx="8424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l personale addetto alla preparazione dei medicinali nel laboratorio della farmacia deve avere 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qualifica e la competenza necessari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l </a:t>
            </a:r>
            <a:r>
              <a:rPr b="0" lang="it-IT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responsabile di ciascuna preparazione è un farmacist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il quale può fare eseguire, se le attività di preparazione sono significative nella farmacia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arte delle OPERAZIONI PIÙ SEMPLICI E RIPETITIVE da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personale tecnico o tirocinante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, purché autorizzato e sotto la sua diretta supervisione e la sua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82520" y="53578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ITI E RESPONSABILITÀ DEVONO ESSERE ATTRIBUITI </a:t>
            </a:r>
            <a:r>
              <a:rPr b="0" lang="it-IT" sz="2400" spc="-1" strike="noStrike">
                <a:solidFill>
                  <a:srgbClr val="0000ff"/>
                </a:solidFill>
                <a:latin typeface="Tahoma"/>
              </a:rPr>
              <a:t>IN MODO CHIA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PER </a:t>
            </a:r>
            <a:r>
              <a:rPr b="0" lang="it-IT" sz="2400" spc="-1" strike="noStrike">
                <a:solidFill>
                  <a:srgbClr val="0000ff"/>
                </a:solidFill>
                <a:latin typeface="Tahoma"/>
              </a:rPr>
              <a:t>ISCRI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1280" y="100440"/>
            <a:ext cx="9036360" cy="66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GESTIONE DEL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personale operante deve essere adeguato alla quantità di lavoro svolto dalla farma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ponsabile generale della farmaci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deve verificare qualità ed idoneità del personale al momento dell’assunzione e garantirne l’aggiornamento periodico. Egli può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ovvedere direttamente alla gestione del laboratorio o può nominare un farmacista responsabile del laboratori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Il singolo operatore è responsabile delle proprie mansioni nel rispetto delle procedure stabilite dalle NB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Formazione del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personale deve ricevere all’inizio della collaborazione e, se necessario in maniera ripetuta, una formazione di base che riguarderà aspetti teorici e pratici sulle tecniche di preparazione in rapporto al concetto di assicurazione della qual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Ciascun addetto deve ricevere una formazione adeguata ai compiti che gli vengono attribuit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me addetto si intende anche il personale responsabile delle mansioni di pulizi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al quale il farmacista responsabile deve fornire un’informazione di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Tutti gli operatori devono essere informati e sensibilizzati sui seguenti pun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singoli incarich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Norme di Buona Preparaz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tecniche di preparaz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normative vigen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protocolli di igiene personale e pulizia di locali ed attrezza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norme base di primo soccors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norme base relative alla legge 81/2008 sulla sicurezza nell’ambiente di lavor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73"/>
                </a:solidFill>
                <a:latin typeface="Tahoma"/>
                <a:ea typeface="Times New Roman"/>
              </a:rPr>
              <a:t>potenziale pericolosità delle materie prime (schede di sicurezz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Mans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farmacista responsabile deve stabilire un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mansionario scritto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allegato 1) che deve essere consegnato in copia a ciascun collaboratore e conservato per almeno un anno dopo la fine del rapporto di lav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mansionario deve contenere istruzioni specifiche al compito di ciascuno e istruzioni sulle modalità operative generali e di puliz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el caso di un unico farmacista questi sarà esentato dalla redazione del mansionario per se stes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e 2"/>
          <p:cNvSpPr/>
          <p:nvPr/>
        </p:nvSpPr>
        <p:spPr>
          <a:xfrm>
            <a:off x="3564000" y="5589720"/>
            <a:ext cx="2016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357280" y="142920"/>
            <a:ext cx="6581880" cy="654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42920" y="184320"/>
            <a:ext cx="7643880" cy="49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NS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OME E COGNOME ADD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FICA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RSI DI FORMAZIONE E DI  AGGIORNAMENTO SEGUITI: 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LO DI IGIENE PERS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TTIVITA’ SVOLTA IN LABO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TI RELATIVI ALLA MANUTENZIONE DELLE MAC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n caso di assenza sostituito 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: nome e cogn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AT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ccia in su 6"/>
          <p:cNvSpPr/>
          <p:nvPr/>
        </p:nvSpPr>
        <p:spPr>
          <a:xfrm rot="5400000">
            <a:off x="8179200" y="5822280"/>
            <a:ext cx="500040" cy="57132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ffe5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1280" y="-3240"/>
            <a:ext cx="9001440" cy="67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ahoma"/>
              </a:rPr>
              <a:t>Riunioni forma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Per facilitare il lavoro dei collaboratori, la comprensione dei punti critici e la relativa soluzione,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il farmacista responsabile terrà riunioni periodiche con il personale addetto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e riunioni verranno organizzate ogni qualvolta ce ne sia la necessità e almeno una volta ogni quattro mes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urante queste riunioni informative, il farmacista responsabile comunicherà al personale qualsiasi variazione riferita alle procedure operative, ai singoli mansionari, ogni novità o qualsiasi segnalazione si renda necessari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Verrà compilato un documento che dovrà essere archiviato e conservato fino alla riunione successiv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giene personale e puli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n linea generale il personale addetto è tenuto a seguire le seguenti istruzion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nei locali destinati alle preparazioni è vietato mangiare, fumare o compiere qualsiasi atto contrario alle norme igienich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 di entrare in laboratorio e qualora se ne presenti la necessità, ciascun operatore deve lavarsi le mani con un detergente e/o disinfettant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l personale deve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indossare camici dedicat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( per es. non indossare lo stesso camice che si porta al banco, eventualmente usando un sovracamice monouso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evono essere messi in atto accorgimenti per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ridurre al minimo la possibilità di introdurre nel laboratorio agenti esterni contaminant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con le calzature, ad esempio: cambio scarpe o copriscarpe o tappetini adesiv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l personale deve indossare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accessori protettivi a protezione dell’operatore e/o della sostanza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(guanti, mascherine, cuffie per capelli, occhiali protettivi e quant’altro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urante l’esecuzione di una preparazione sterile il tipo di vestizione deve essere adeguato alla classe dell’ambiente come indicato in NB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ahoma"/>
              </a:rPr>
              <a:t>Gestione del personale non addetto al laborator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Non è permesso l’ingresso di personale non addetto al laboratorio durante le operazioni di preparazio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ahoma"/>
              </a:rPr>
              <a:t>Tirocinan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 tirocinanti possono essere ammessi in laboratorio purché </a:t>
            </a:r>
            <a:r>
              <a:rPr b="1" lang="it-IT" sz="1300" spc="-1" strike="noStrike">
                <a:solidFill>
                  <a:srgbClr val="333399"/>
                </a:solidFill>
                <a:latin typeface="Tahoma"/>
                <a:ea typeface="Times New Roman"/>
              </a:rPr>
              <a:t>preventivamente istruit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sulle norme comportamentali di base da adottare e sulle tecniche di preparazio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Una volta addestrati ed autorizzati dal farmacista responsabile, potranno </a:t>
            </a:r>
            <a:r>
              <a:rPr b="1" lang="it-IT" sz="1300" spc="-1" strike="noStrike">
                <a:solidFill>
                  <a:srgbClr val="333399"/>
                </a:solidFill>
                <a:latin typeface="Tahoma"/>
                <a:ea typeface="Times New Roman"/>
              </a:rPr>
              <a:t>eseguire operazioni semplici e ripetitive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, sotto la diretta responsabilità di quest’ultim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99"/>
                </a:solidFill>
                <a:latin typeface="Tahoma"/>
                <a:ea typeface="Times New Roman"/>
              </a:rPr>
              <a:t>In ogni caso ai tirocinanti potranno essere assegnati solo compiti ben individuati e limitat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Nota: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si suggerisce di applicare le stesse disposizioni anche in caso di 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durante lo svolgimento di 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tesi sperimental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o 6"/>
          <p:cNvGrpSpPr/>
          <p:nvPr/>
        </p:nvGrpSpPr>
        <p:grpSpPr>
          <a:xfrm>
            <a:off x="4786200" y="4214880"/>
            <a:ext cx="4143600" cy="2428920"/>
            <a:chOff x="4786200" y="4214880"/>
            <a:chExt cx="4143600" cy="2428920"/>
          </a:xfrm>
        </p:grpSpPr>
        <p:sp>
          <p:nvSpPr>
            <p:cNvPr id="58" name="Rettangolo 5"/>
            <p:cNvSpPr/>
            <p:nvPr/>
          </p:nvSpPr>
          <p:spPr>
            <a:xfrm>
              <a:off x="4786200" y="4214880"/>
              <a:ext cx="4143600" cy="2428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3" descr=""/>
            <p:cNvPicPr/>
            <p:nvPr/>
          </p:nvPicPr>
          <p:blipFill>
            <a:blip r:embed="rId1"/>
            <a:stretch/>
          </p:blipFill>
          <p:spPr>
            <a:xfrm>
              <a:off x="4980240" y="4272480"/>
              <a:ext cx="1018440" cy="22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4" descr=""/>
            <p:cNvPicPr/>
            <p:nvPr/>
          </p:nvPicPr>
          <p:blipFill>
            <a:blip r:embed="rId2"/>
            <a:stretch/>
          </p:blipFill>
          <p:spPr>
            <a:xfrm>
              <a:off x="7116840" y="4677480"/>
              <a:ext cx="1696680" cy="13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reccia bidirezionale orizzontale 4"/>
            <p:cNvSpPr/>
            <p:nvPr/>
          </p:nvSpPr>
          <p:spPr>
            <a:xfrm>
              <a:off x="6145200" y="5140440"/>
              <a:ext cx="906480" cy="461880"/>
            </a:xfrm>
            <a:prstGeom prst="leftRightArrow">
              <a:avLst>
                <a:gd name="adj1" fmla="val 50000"/>
                <a:gd name="adj2" fmla="val 55988"/>
              </a:avLst>
            </a:prstGeom>
            <a:solidFill>
              <a:srgbClr val="ffe5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1928880" y="3357720"/>
            <a:ext cx="1123920" cy="1095120"/>
          </a:xfrm>
          <a:prstGeom prst="rect">
            <a:avLst/>
          </a:prstGeom>
          <a:ln w="0">
            <a:noFill/>
          </a:ln>
        </p:spPr>
      </p:pic>
      <p:sp>
        <p:nvSpPr>
          <p:cNvPr id="63" name="Connettore 1 10"/>
          <p:cNvSpPr/>
          <p:nvPr/>
        </p:nvSpPr>
        <p:spPr>
          <a:xfrm>
            <a:off x="214200" y="4929120"/>
            <a:ext cx="8568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uppo 11"/>
          <p:cNvGrpSpPr/>
          <p:nvPr/>
        </p:nvGrpSpPr>
        <p:grpSpPr>
          <a:xfrm>
            <a:off x="714240" y="3728880"/>
            <a:ext cx="7215480" cy="1191240"/>
            <a:chOff x="714240" y="3728880"/>
            <a:chExt cx="7215480" cy="1191240"/>
          </a:xfrm>
        </p:grpSpPr>
        <p:sp>
          <p:nvSpPr>
            <p:cNvPr id="65" name="CasellaDiTesto 12"/>
            <p:cNvSpPr/>
            <p:nvPr/>
          </p:nvSpPr>
          <p:spPr>
            <a:xfrm>
              <a:off x="2000160" y="3728880"/>
              <a:ext cx="5929560" cy="1191240"/>
            </a:xfrm>
            <a:prstGeom prst="rect">
              <a:avLst/>
            </a:prstGeom>
            <a:solidFill>
              <a:srgbClr val="ffe5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Es. Preparazioni liquide per uso orale</a:t>
              </a:r>
              <a:br>
                <a:rPr sz="1800"/>
              </a:b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- MISCELAZIONE DEI COMPON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- RIEMPIMENTO FLACONI CON IL VOLUME PREVI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- ETICHETTATURA FLACO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ccia a destra con strisce 13"/>
            <p:cNvSpPr/>
            <p:nvPr/>
          </p:nvSpPr>
          <p:spPr>
            <a:xfrm>
              <a:off x="714240" y="4071600"/>
              <a:ext cx="1071360" cy="571680"/>
            </a:xfrm>
            <a:custGeom>
              <a:avLst/>
              <a:gdLst>
                <a:gd name="textAreaLeft" fmla="*/ 89280 w 1071360"/>
                <a:gd name="textAreaRight" fmla="*/ 928800 w 1071360"/>
                <a:gd name="textAreaTop" fmla="*/ 142920 h 571680"/>
                <a:gd name="textAreaBottom" fmla="*/ 428760 h 571680"/>
              </a:gdLst>
              <a:ahLst/>
              <a:rect l="textAreaLeft" t="textAreaTop" r="textAreaRight" b="textAreaBottom"/>
              <a:pathLst>
                <a:path w="1071570" h="571585">
                  <a:moveTo>
                    <a:pt x="0" y="142896"/>
                  </a:moveTo>
                  <a:lnTo>
                    <a:pt x="17862" y="142896"/>
                  </a:lnTo>
                  <a:lnTo>
                    <a:pt x="17862" y="428689"/>
                  </a:lnTo>
                  <a:lnTo>
                    <a:pt x="0" y="428689"/>
                  </a:lnTo>
                  <a:close/>
                  <a:moveTo>
                    <a:pt x="35724" y="142896"/>
                  </a:moveTo>
                  <a:lnTo>
                    <a:pt x="71448" y="142896"/>
                  </a:lnTo>
                  <a:lnTo>
                    <a:pt x="71448" y="428689"/>
                  </a:lnTo>
                  <a:lnTo>
                    <a:pt x="35724" y="428689"/>
                  </a:lnTo>
                  <a:close/>
                  <a:moveTo>
                    <a:pt x="89310" y="142896"/>
                  </a:moveTo>
                  <a:lnTo>
                    <a:pt x="785778" y="142896"/>
                  </a:lnTo>
                  <a:lnTo>
                    <a:pt x="785778" y="0"/>
                  </a:lnTo>
                  <a:lnTo>
                    <a:pt x="1071570" y="285793"/>
                  </a:lnTo>
                  <a:lnTo>
                    <a:pt x="785778" y="571585"/>
                  </a:lnTo>
                  <a:lnTo>
                    <a:pt x="785778" y="428689"/>
                  </a:lnTo>
                  <a:lnTo>
                    <a:pt x="89310" y="428689"/>
                  </a:lnTo>
                  <a:close/>
                </a:path>
              </a:pathLst>
            </a:custGeom>
            <a:solidFill>
              <a:srgbClr val="ffe5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42920" y="115560"/>
            <a:ext cx="8643960" cy="467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Allega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OCUMENTAZIONE RIUNIONI FORM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i segnala che in data ../../.. si è tenuto un incontro formativo cui hanno partecipato il titolare, il farmacista responsabile, e i seguenti operato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Nel corso di tale riunione sono state discusse (barrare quelle interessa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l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uove procedure operativ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modifica di procedure operativ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spiegazione dettagliata riguardo eventuali punti critici presenti nelle procedu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visione del mansionari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l’introduzione di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nuove sostanz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l’introduzione di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nuove attrezzatu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un nuovo assu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alt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ANNO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FIRMA DEI PRES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uppo 8"/>
          <p:cNvGrpSpPr/>
          <p:nvPr/>
        </p:nvGrpSpPr>
        <p:grpSpPr>
          <a:xfrm>
            <a:off x="71280" y="232200"/>
            <a:ext cx="8999640" cy="6374520"/>
            <a:chOff x="71280" y="232200"/>
            <a:chExt cx="8999640" cy="6374520"/>
          </a:xfrm>
        </p:grpSpPr>
        <p:sp>
          <p:nvSpPr>
            <p:cNvPr id="69" name="Rectangle 1"/>
            <p:cNvSpPr/>
            <p:nvPr/>
          </p:nvSpPr>
          <p:spPr>
            <a:xfrm>
              <a:off x="71280" y="232200"/>
              <a:ext cx="8999640" cy="63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legat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OCUMENTAZIONE RIUNIONI FORM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i segnala che in data 03/01/09 si è tenuto un incontro formativo cui hanno partecipato il titolare, il farmacista responsabile, e i seguenti operatori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- Dott. Mario Ross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- Dott.ssa Anna Bianch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el corso di tale riunione sono state discusse (barrare quelle interessate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e nuove procedure oper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a modifica di procedure oper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piegazione dettagliata riguardo eventuali punti critici presenti nelle procedure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a revisione del mansion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’introduzione di nuove sostan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’introduzione di nuove attrezz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 nuovo ass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tr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NNOTAZIO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a nuova procedura operativa introdotta riguarda una nuova apparecchiatura di cui è stato dotato il laboratorio: un’</a:t>
              </a:r>
              <a:r>
                <a:rPr b="0" lang="it-IT" sz="16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ncapsulatrice semiautomatica per capsule tipo 3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tto il personale è stato istruito riguardo quanto riportato nella procedura inerente la nuova apparecchiatur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IRMA DEI PRESENTI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xxx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zzz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ss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w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onnettore 1 4"/>
            <p:cNvSpPr/>
            <p:nvPr/>
          </p:nvSpPr>
          <p:spPr>
            <a:xfrm>
              <a:off x="141840" y="2500200"/>
              <a:ext cx="21420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onnettore 1 5"/>
            <p:cNvSpPr/>
            <p:nvPr/>
          </p:nvSpPr>
          <p:spPr>
            <a:xfrm flipV="1">
              <a:off x="142560" y="2501640"/>
              <a:ext cx="2142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onnettore 1 6"/>
            <p:cNvSpPr/>
            <p:nvPr/>
          </p:nvSpPr>
          <p:spPr>
            <a:xfrm>
              <a:off x="141840" y="3714840"/>
              <a:ext cx="21420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onnettore 1 7"/>
            <p:cNvSpPr/>
            <p:nvPr/>
          </p:nvSpPr>
          <p:spPr>
            <a:xfrm flipV="1">
              <a:off x="142560" y="3716280"/>
              <a:ext cx="21420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visualizzazione dati di un lotto"/>
          <p:cNvPicPr/>
          <p:nvPr/>
        </p:nvPicPr>
        <p:blipFill>
          <a:blip r:embed="rId1"/>
          <a:stretch/>
        </p:blipFill>
        <p:spPr>
          <a:xfrm>
            <a:off x="3271680" y="4000680"/>
            <a:ext cx="5801040" cy="2786040"/>
          </a:xfrm>
          <a:prstGeom prst="rect">
            <a:avLst/>
          </a:prstGeom>
          <a:ln w="0">
            <a:noFill/>
          </a:ln>
        </p:spPr>
      </p:pic>
      <p:sp>
        <p:nvSpPr>
          <p:cNvPr id="75" name="Connettore 1 11"/>
          <p:cNvSpPr/>
          <p:nvPr/>
        </p:nvSpPr>
        <p:spPr>
          <a:xfrm>
            <a:off x="357120" y="3643200"/>
            <a:ext cx="29876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angolare in su 12"/>
          <p:cNvSpPr/>
          <p:nvPr/>
        </p:nvSpPr>
        <p:spPr>
          <a:xfrm flipH="1" rot="10800000">
            <a:off x="3357720" y="3500280"/>
            <a:ext cx="1000080" cy="571680"/>
          </a:xfrm>
          <a:custGeom>
            <a:avLst/>
            <a:gdLst>
              <a:gd name="textAreaLeft" fmla="*/ 0 w 1000080"/>
              <a:gd name="textAreaRight" fmla="*/ 928800 w 1000080"/>
              <a:gd name="textAreaTop" fmla="*/ 428760 h 571680"/>
              <a:gd name="textAreaBottom" fmla="*/ 572040 h 571680"/>
            </a:gdLst>
            <a:ahLst/>
            <a:rect l="textAreaLeft" t="textAreaTop" r="textAreaRight" b="textAreaBottom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ffe5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30:32Z</dcterms:created>
  <dc:creator>...</dc:creator>
  <dc:description/>
  <dc:language>en-US</dc:language>
  <cp:lastModifiedBy>Francesca</cp:lastModifiedBy>
  <dcterms:modified xsi:type="dcterms:W3CDTF">2013-04-05T15:37:13Z</dcterms:modified>
  <cp:revision>2</cp:revision>
  <dc:subject/>
  <dc:title>Diapositiva 1</dc:title>
</cp:coreProperties>
</file>